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5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media/image21.wmf" ContentType="image/x-wmf"/>
  <Override PartName="/ppt/media/match_strike.wav" ContentType="audio/x-wav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28.png" ContentType="image/png"/>
  <Override PartName="/ppt/media/Pig.wav" ContentType="audio/x-wav"/>
  <Override PartName="/ppt/media/image13.wmf" ContentType="image/x-wmf"/>
  <Override PartName="/ppt/media/image29.png" ContentType="image/png"/>
  <Override PartName="/ppt/media/image14.wmf" ContentType="image/x-wmf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media/image3.wmf" ContentType="image/x-wmf"/>
  <Override PartName="/ppt/media/image26.wmf" ContentType="image/x-wmf"/>
  <Override PartName="/ppt/media/image1.png" ContentType="image/png"/>
  <Override PartName="/ppt/media/image16.wmf" ContentType="image/x-wmf"/>
  <Override PartName="/ppt/media/image17.png" ContentType="image/png"/>
  <Override PartName="/ppt/media/image19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3AD6-510C-439E-BC5E-ABD57EE7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5390-6C27-4BE2-91EA-EF14F6BDF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30C8-B326-4DAB-A7B8-E18E0B57C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148A-34B4-4EC2-B07A-9D7B1212C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E870-09F5-4324-A93C-21F93F806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BF6A-F308-4EB1-B45E-A1F76B8E1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3F43-645C-4615-84D5-BCC99D52F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E7E6-8A77-4E6C-9CED-5C006C3B9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A886-F55D-4006-A907-EF14A16F7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188A-82E6-4EBD-A866-1644D5184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1F9F-8488-4D79-BF32-4C2A09A23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FCB4-9A12-401F-90B1-8A1A5321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34B3-48A9-4C26-A16C-5F92C84F6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4E65-D7B8-48BE-913E-63E137B6CF78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9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3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audio" Target="../media/match_strik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lnSpc>
                <a:spcPct val="100000"/>
              </a:lnSpc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4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539440" y="1523160"/>
            <a:ext cx="3077280" cy="991440"/>
            <a:chOff x="2539440" y="1523160"/>
            <a:chExt cx="3077280" cy="991440"/>
          </a:xfrm>
        </p:grpSpPr>
        <p:sp>
          <p:nvSpPr>
            <p:cNvPr id="431" name=""/>
            <p:cNvSpPr/>
            <p:nvPr/>
          </p:nvSpPr>
          <p:spPr>
            <a:xfrm>
              <a:off x="3581280" y="19051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39440" y="152316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12800" y="152316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18920" y="3200040"/>
            <a:ext cx="1999080" cy="1067760"/>
            <a:chOff x="2518920" y="3200040"/>
            <a:chExt cx="1999080" cy="1067760"/>
          </a:xfrm>
        </p:grpSpPr>
        <p:sp>
          <p:nvSpPr>
            <p:cNvPr id="435" name=""/>
            <p:cNvSpPr/>
            <p:nvPr/>
          </p:nvSpPr>
          <p:spPr>
            <a:xfrm flipV="1">
              <a:off x="3581280" y="319968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18920" y="37170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4040" y="371772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697040" y="265068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9240" y="30697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33720" y="3051000"/>
            <a:ext cx="609480" cy="527400"/>
          </a:xfrm>
          <a:prstGeom prst="hexagon">
            <a:avLst>
              <a:gd name="adj" fmla="val 2889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3051000"/>
            <a:ext cx="609480" cy="527400"/>
          </a:xfrm>
          <a:prstGeom prst="hexagon">
            <a:avLst>
              <a:gd name="adj" fmla="val 2889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73100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6427800" y="3691080"/>
            <a:ext cx="1957320" cy="1287360"/>
          </a:xfrm>
          <a:prstGeom prst="wedgeEllipseCallout">
            <a:avLst>
              <a:gd name="adj1" fmla="val 31509"/>
              <a:gd name="adj2" fmla="val 9426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294080" y="3503520"/>
            <a:ext cx="1505160" cy="986040"/>
            <a:chOff x="4294080" y="3503520"/>
            <a:chExt cx="1505160" cy="986040"/>
          </a:xfrm>
        </p:grpSpPr>
        <p:sp>
          <p:nvSpPr>
            <p:cNvPr id="445" name=""/>
            <p:cNvSpPr/>
            <p:nvPr/>
          </p:nvSpPr>
          <p:spPr>
            <a:xfrm>
              <a:off x="4294080" y="350352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14600" y="370620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3817800" y="2073240"/>
            <a:ext cx="8272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54" name="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55" name="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59" name="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60" name="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64" name="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65" name="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69" name="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70" name="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74" name="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75" name="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481" name="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245916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8600" y="4204800"/>
            <a:ext cx="6303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thout regenerating NAD+,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production would stop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other molecule must accept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 from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7083360" y="4730760"/>
            <a:ext cx="2039760" cy="2090520"/>
            <a:chOff x="7083360" y="4730760"/>
            <a:chExt cx="2039760" cy="2090520"/>
          </a:xfrm>
        </p:grpSpPr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7083360" y="473076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085160" y="502596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059360" y="254808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058640" y="345276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493" name="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494" name="" descr=""/>
              <p:cNvPicPr/>
              <p:nvPr/>
            </p:nvPicPr>
            <p:blipFill>
              <a:blip r:embed="rId2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495" name="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63880" y="496728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actic acid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0360" y="1257480"/>
            <a:ext cx="2346120" cy="579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85040" y="1257480"/>
            <a:ext cx="2643120" cy="85392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28520" y="3094200"/>
            <a:ext cx="2039760" cy="2090160"/>
            <a:chOff x="128520" y="3094200"/>
            <a:chExt cx="2039760" cy="2090160"/>
          </a:xfrm>
        </p:grpSpPr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128520" y="309420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130320" y="338940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1000" y="4884840"/>
            <a:ext cx="518148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0480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10360" y="2025360"/>
            <a:ext cx="4770720" cy="1022760"/>
            <a:chOff x="1710360" y="2025360"/>
            <a:chExt cx="4770720" cy="1022760"/>
          </a:xfrm>
        </p:grpSpPr>
        <p:sp>
          <p:nvSpPr>
            <p:cNvPr id="540" name=""/>
            <p:cNvSpPr/>
            <p:nvPr/>
          </p:nvSpPr>
          <p:spPr>
            <a:xfrm>
              <a:off x="578016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7484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5592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1036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18280" y="4931640"/>
            <a:ext cx="4127760" cy="1031040"/>
            <a:chOff x="1718280" y="4931640"/>
            <a:chExt cx="4127760" cy="1031040"/>
          </a:xfrm>
        </p:grpSpPr>
        <p:sp>
          <p:nvSpPr>
            <p:cNvPr id="546" name=""/>
            <p:cNvSpPr/>
            <p:nvPr/>
          </p:nvSpPr>
          <p:spPr>
            <a:xfrm>
              <a:off x="171828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5900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4500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495160" y="2606760"/>
            <a:ext cx="2108520" cy="746640"/>
            <a:chOff x="2495160" y="2606760"/>
            <a:chExt cx="2108520" cy="746640"/>
          </a:xfrm>
        </p:grpSpPr>
        <p:sp>
          <p:nvSpPr>
            <p:cNvPr id="552" name=""/>
            <p:cNvSpPr/>
            <p:nvPr/>
          </p:nvSpPr>
          <p:spPr>
            <a:xfrm flipV="1">
              <a:off x="324036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9516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8288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511000" y="5501880"/>
            <a:ext cx="2108880" cy="747360"/>
            <a:chOff x="2511000" y="5501880"/>
            <a:chExt cx="2108880" cy="747360"/>
          </a:xfrm>
        </p:grpSpPr>
        <p:sp>
          <p:nvSpPr>
            <p:cNvPr id="556" name=""/>
            <p:cNvSpPr/>
            <p:nvPr/>
          </p:nvSpPr>
          <p:spPr>
            <a:xfrm flipV="1">
              <a:off x="325620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100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990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559" name="" descr="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0" name="" descr=""/>
          <p:cNvPicPr/>
          <p:nvPr/>
        </p:nvPicPr>
        <p:blipFill>
          <a:blip r:embed="rId2"/>
          <a:srcRect l="12800" t="0" r="22400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61" name="" descr=""/>
          <p:cNvPicPr/>
          <p:nvPr/>
        </p:nvPicPr>
        <p:blipFill>
          <a:blip r:embed="rId3"/>
          <a:srcRect l="0" t="0" r="68443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4402440" y="31885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02440" y="59983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569" name="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576" name="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589" name="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591" name="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595" name="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02" name="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7294680" y="3974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09" name="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11" name="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14" name="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16" name="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Kreb’s cycl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22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624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25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31" name="" descr="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651" name="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more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lyco – lysis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all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6" name="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05640" y="4842000"/>
            <a:ext cx="153216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6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51040" y="5338800"/>
            <a:ext cx="200160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770960" y="54799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60800" y="5315040"/>
            <a:ext cx="2386080" cy="1450800"/>
          </a:xfrm>
          <a:prstGeom prst="wedgeEllipseCallout">
            <a:avLst>
              <a:gd name="adj1" fmla="val 80740"/>
              <a:gd name="adj2" fmla="val -272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2" name="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45" name="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49" name="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2" name="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56" name="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59" name="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0" name="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3" name="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78" name="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3" name="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88" name="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3" name="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198" name="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3" name="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08" name="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3" name="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6" name="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360 w 421920"/>
                <a:gd name="textAreaRight" fmla="*/ 422640 w 4219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015675"/>
                  <a:lnTo>
                    <a:pt x="5909" y="1171"/>
                  </a:lnTo>
                  <a:arcTo wR="10800" hR="10800" stAng="-7015675" swAng="7015675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19040"/>
            <a:ext cx="4776840" cy="5411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081400" y="5443560"/>
            <a:ext cx="141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yield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04080" y="4589640"/>
            <a:ext cx="1195200" cy="1041120"/>
          </a:xfrm>
          <a:prstGeom prst="wedgeEllipseCallout">
            <a:avLst>
              <a:gd name="adj1" fmla="val 47342"/>
              <a:gd name="adj2" fmla="val 7682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226280" y="4602240"/>
            <a:ext cx="1839960" cy="2154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95920" y="3747960"/>
            <a:ext cx="1749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mut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kina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000" y="1371240"/>
            <a:ext cx="261000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64480" y="115308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55520" y="2735280"/>
            <a:ext cx="3352680" cy="1738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 lvl="1" marL="339840" indent="-22536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4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94360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397" name="" descr="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mberly Area School District</cp:lastModifiedBy>
  <cp:lastPrinted>2007-01-04T04:15:12Z</cp:lastPrinted>
  <dcterms:modified xsi:type="dcterms:W3CDTF">2008-11-07T14:59:28Z</dcterms:modified>
  <cp:revision>92</cp:revision>
  <dc:subject/>
  <dc:title>Chapter  9.  Cellular Respiration  STAGE 1: Glycolysis</dc:title>
</cp:coreProperties>
</file>